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58DF-16B3-42D6-8910-F50A9826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EF03-758C-47EC-A3BC-A40EEBF65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4A92-B434-4FAD-A094-121F07937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153-5723-4C9A-9058-FC5C49A3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08AC-5798-4DC2-9CBA-C1210BB2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82F9-0EDE-4B09-B44B-4C8B42207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40B-86BC-49E5-9624-26C423B3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65A-F694-442A-B3AE-AAA5FA21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978-C8C3-4251-9E0E-3ED158DD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2D2-7EA7-44D4-80D8-FFB00002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20A-099E-48AF-A9B3-9F52619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186-61BC-4138-9795-6169C531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4EB-D66B-41E8-99E0-903405B1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F04-8ABD-42C6-BAC3-E67DE515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71D-E164-42C5-B883-98D3D8BB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534-47EB-495D-99AF-F62B16E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A6D-B380-41D6-AB06-8AA84802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BE8-5EEE-4E68-A5EC-B965A88B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44FB-F085-4B1E-A938-4EB54556D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nvironment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nvironment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SEFEL_Cover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B Training Kit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62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elping Children Understand Routines and Classroom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utines vs. Sched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routines and schedules are often used interchangeab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the big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activities to be completed da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represent the steps done to complete the sched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utines vs. Sched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s and schedules need to be directly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s and schedules may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ut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ctivities and procedures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involve a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hool routines typicall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ily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s of time for classroom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of classroom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hool schedul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ines and schedules are important becau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__________ a child’s emotional, cognitive and social develop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elp children feel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elp children understand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help reduce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can result in higher rates of child 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gs to Consider in Daily Schedule Planni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th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activiti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adult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ttention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level of aler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cultural and linguistic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r play periods result in increased      play behavi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Makes a Good Daily Schedu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ance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and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Group and Smal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or and Out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-Directed and Teacher-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 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daily picture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vironment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environments.com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create and print free daily routin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7:48:16Z</dcterms:created>
  <dc:creator>Tony Maupin</dc:creator>
  <dc:description/>
  <dc:language>en-US</dc:language>
  <cp:lastModifiedBy>Rae Ann</cp:lastModifiedBy>
  <dcterms:modified xsi:type="dcterms:W3CDTF">2012-02-08T05:27:40Z</dcterms:modified>
  <cp:revision>16</cp:revision>
  <dc:subject/>
  <dc:title>PowerPoint Presentation</dc:title>
</cp:coreProperties>
</file>