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B3B8-A431-4168-BD33-592B6D2BC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241B-602E-42EB-9A64-163B42414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3629-6BC6-4EA4-95B7-B5C1299D2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0804-F29F-448F-A1E0-4D7EEC706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61EE-81EF-4066-A03C-DA3996728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0032-2BBB-4147-B7B1-C0231A141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4DF6-749F-4DFF-B70F-6BFDF8D9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AF45-FBCC-4D5B-9E29-023B6429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9F64-CE95-4586-AB45-B933A0C7E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31D5-FF2E-4553-94B7-B2738861D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B98C-3ECF-4595-AB51-A7DB73E3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C069-B6BB-4A1B-B67A-86CF3DA6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4E7F-893F-43FE-A670-A0B3A4F9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0BAC-A706-41E0-93AF-6B52BE95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6A8D-F770-418C-A899-41E5EBE5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5913-28C7-4E2E-B1ED-CE1814E6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E999-8003-454C-80AC-1EFF673C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35F2-DC62-487B-B356-5B3680C3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A4DB-3A0B-46B1-91B7-D6FD00732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nvironments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nvironments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SEFEL_Cover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WB Training Kit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36232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Helping Children Understand Routines and Classroom Sche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V2_CSEFEL_logo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utines vs. Sched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rms routines and schedules are often used interchangeab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_______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present the big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activities to be completed da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represent the steps done to complete the sched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V2_CSEFEL_logo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utines vs. Sched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ines and schedules need to be directly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ines and schedules may v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V2_CSEFEL_logo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ut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activities and procedures tha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involve a 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chool routines typically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V2_CSEFEL_logo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ily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s of time for classroom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e of classroom activ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chool schedules typically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V2_CSEFEL_logo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utines and schedules are important becaus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__________ a child’s emotional, cognitive and social develop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help children feel 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help children understand 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help reduce 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can result in higher rates of child 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V2_CSEFEL_logo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gs to Consider in Daily Schedule Planning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 th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activitie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adult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attention 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level of aler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cultural and linguistic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er play periods result in increased      play behavio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V2_CSEFEL_logo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Makes a Good Daily Schedu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lance of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and Qu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Group and Small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oor and Outd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-Directed and Teacher-Dir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ual C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daily picture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nvironment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V2_CSEFEL_logo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ditional 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www.environments.co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o create and print free daily routine lab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17:48:16Z</dcterms:created>
  <dc:creator>Tony Maupin</dc:creator>
  <dc:description/>
  <dc:language>en-US</dc:language>
  <cp:lastModifiedBy>Rae Ann</cp:lastModifiedBy>
  <dcterms:modified xsi:type="dcterms:W3CDTF">2012-02-08T05:27:40Z</dcterms:modified>
  <cp:revision>16</cp:revision>
  <dc:subject/>
  <dc:title>PowerPoint Presentation</dc:title>
</cp:coreProperties>
</file>