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5CE7-C002-4C7A-A00C-505793DB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759E-74D1-4E7D-8088-1D3262D6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BDE3-D5DF-4743-8C99-3D6B9576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A51-1994-4CA0-A80B-7C421C6A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DA8C-2BCF-4E60-8135-43D9AFED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961E-7F8A-4D6D-82AC-CBFA0C8D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43B-9E93-4D55-BCDA-B18292A2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B99-14B2-4BF4-965C-C40518D4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5555-8B8A-4172-9516-F216CEFC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ECC-92FC-4840-B6FD-AF7FCB68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5E8-2E21-4957-ABA8-3F15BEF0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1BE-6867-4B8B-9B33-D5E221BA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5146-11FC-4D11-BE5C-8D9437131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SEFEL_Cover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WB Training Kit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3623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ing Children Ma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s betwee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V2_CSEFEL_logo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ransition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refers to a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ypes of trans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s betwee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s between multiple sett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s between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V2_CSEFEL_logo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609480"/>
            <a:ext cx="8076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is it important to  address transitions between activ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itions take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ildren often spend a lot of time wa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itions can be stressful and frust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kills such as cleaning up may reduce transition times and may lead to more time for children to be engaged in activ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children are taught what they "should be doing," we are less likely to see problem behavi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preschool teachers consider children's ability to independently make transitions a key s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V2_CSEFEL_Pics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egies that support smooth transitions between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fore the 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your schedule to include a minimum number of transition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what the children and adults will do during these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verbal and nonverbal cues before 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 children the expectations for the 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the number of transitions in which all             children have to do the same thing at the same                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V2_CSEFEL_Pics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egies that support smooth transitions between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uring the 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 songs, play word or guessing games, recite rhymes, or do finger plays with child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a gradual increase or decrease in the level of activity and a good balance of active and quiet 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children adequate time to finish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something for those children who finish an activity quickly so they are not waiting without something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V2_CSEFEL_Pics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egies that support smooth transitions between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fter the 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ositive attention or feedback to children following smooth 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very specific positive feedback after trans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V2_CSEFEL_logo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mote independence during trans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children to move individually from one area to another area when they complete an acti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children to help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children self-monitor during trans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V2_CSEFEL_logo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ividualize transition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support or different types of support to children during trans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7:48:16Z</dcterms:created>
  <dc:creator>Tony Maupin</dc:creator>
  <dc:description/>
  <dc:language>en-US</dc:language>
  <cp:lastModifiedBy>Rae Ann</cp:lastModifiedBy>
  <dcterms:modified xsi:type="dcterms:W3CDTF">2012-02-08T05:29:05Z</dcterms:modified>
  <cp:revision>9</cp:revision>
  <dc:subject/>
  <dc:title>PowerPoint Presentation</dc:title>
</cp:coreProperties>
</file>