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743-46C1-41CE-A396-A125C1BA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6F9-45C3-4619-A5E0-4C6DC77D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76A-9219-4DDC-A30A-52DFB599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8469-C97E-415C-9731-F42D728E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123-488A-4E72-8E94-0BFDD93B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9A8-D301-4E1F-8D79-44248283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87B-F3B0-4155-9EC4-1C8F86DB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EDD-859F-492F-9970-3DBC8081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8BB-8B25-49D1-A9D4-751C728F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E2D-8FFB-4EA8-98CC-941521C9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D6D-2E9D-4B51-A9DB-AA687D27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BDC-5435-46CB-8594-C5C532AA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73D5-D84C-4DBB-BD75-A9126C72B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SEFEL_Cover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B Training Kit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623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Children M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s betwee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ransition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refers to a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ypes of trans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s betwee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s between multiple sett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s between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V2_CSEFEL_logo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is it important to  address transitions between activ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itions take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ildren often spend a lot of time wa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itions can be stressful and frust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kills such as cleaning up may reduce transition times and may lead to more time for children to be engaged in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children are taught what they "should be doing," we are less likely to see problem behavi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preschool teachers consider children's ability to independently make transitions a key 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V2_CSEFEL_Pics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es that support smooth transitions between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fore the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your schedule to include a minimum number of transitio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what the children and adults will do during thes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verbal and nonverbal cues before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 children the expectations for the 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number of transitions in which all             children have to do the same thing at the same                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V2_CSEFEL_Pics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es that support smooth transitions between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uring the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 songs, play word or guessing games, recite rhymes, or do finger plays with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a gradual increase or decrease in the level of activity and a good balance of active and quiet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children adequate time to finish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something for those children who finish an activity quickly so they are not waiting without something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V2_CSEFEL_Pics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es that support smooth transitions between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fter the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ositive attention or feedback to children following smooth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very specific positive feedback after trans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mote independence during trans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hildren to move individually from one area to another area when they complete an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children to help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children self-monitor during trans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vidualize transition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support or different types of support to children during trans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7:48:16Z</dcterms:created>
  <dc:creator>Tony Maupin</dc:creator>
  <dc:description/>
  <dc:language>en-US</dc:language>
  <cp:lastModifiedBy>Rae Ann</cp:lastModifiedBy>
  <dcterms:modified xsi:type="dcterms:W3CDTF">2012-02-08T05:29:05Z</dcterms:modified>
  <cp:revision>9</cp:revision>
  <dc:subject/>
  <dc:title>PowerPoint Presentation</dc:title>
</cp:coreProperties>
</file>